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3.png" ContentType="image/png"/>
  <Override PartName="/ppt/media/image10.wmf" ContentType="image/x-wmf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jpeg" ContentType="image/jpeg"/>
  <Override PartName="/ppt/media/image43.jpeg" ContentType="image/jpeg"/>
  <Override PartName="/ppt/media/image54.png" ContentType="image/png"/>
  <Override PartName="/ppt/media/image41.jpeg" ContentType="image/jpeg"/>
  <Override PartName="/ppt/media/image66.png" ContentType="image/png"/>
  <Override PartName="/ppt/media/image38.jpeg" ContentType="image/jpeg"/>
  <Override PartName="/ppt/media/image72.png" ContentType="image/png"/>
  <Override PartName="/ppt/media/image37.jpeg" ContentType="image/jpeg"/>
  <Override PartName="/ppt/media/image57.png" ContentType="image/png"/>
  <Override PartName="/ppt/media/image36.jpeg" ContentType="image/jpeg"/>
  <Override PartName="/ppt/media/image47.png" ContentType="image/png"/>
  <Override PartName="/ppt/media/image35.jpeg" ContentType="image/jpeg"/>
  <Override PartName="/ppt/media/image33.jpeg" ContentType="image/jpeg"/>
  <Override PartName="/ppt/media/image30.jpeg" ContentType="image/jpeg"/>
  <Override PartName="/ppt/media/image83.wmf" ContentType="image/x-wmf"/>
  <Override PartName="/ppt/media/image24.jpeg" ContentType="image/jpeg"/>
  <Override PartName="/ppt/media/image59.png" ContentType="image/png"/>
  <Override PartName="/ppt/media/image60.png" ContentType="image/png"/>
  <Override PartName="/ppt/media/image28.jpeg" ContentType="image/jpeg"/>
  <Override PartName="/ppt/media/image62.png" ContentType="image/png"/>
  <Override PartName="/ppt/media/image6.jpeg" ContentType="image/jpeg"/>
  <Override PartName="/ppt/media/image71.png" ContentType="image/png"/>
  <Override PartName="/ppt/media/image12.png" ContentType="image/png"/>
  <Override PartName="/ppt/media/image49.png" ContentType="image/png"/>
  <Override PartName="/ppt/media/image32.jpeg" ContentType="image/jpeg"/>
  <Override PartName="/ppt/media/image26.jpeg" ContentType="image/jpeg"/>
  <Override PartName="/ppt/media/image79.png" ContentType="image/png"/>
  <Override PartName="/ppt/media/image21.jpeg" ContentType="image/jpeg"/>
  <Override PartName="/ppt/media/image65.png" ContentType="image/png"/>
  <Override PartName="/ppt/media/image29.jpeg" ContentType="image/jpeg"/>
  <Override PartName="/ppt/media/image61.png" ContentType="image/png"/>
  <Override PartName="/ppt/media/image86.png" ContentType="image/png"/>
  <Override PartName="/ppt/media/image31.jpeg" ContentType="image/jpeg"/>
  <Override PartName="/ppt/media/image74.png" ContentType="image/png"/>
  <Override PartName="/ppt/media/image16.png" ContentType="image/png"/>
  <Override PartName="/ppt/media/image81.png" ContentType="image/png"/>
  <Override PartName="/ppt/media/image67.png" ContentType="image/png"/>
  <Override PartName="/ppt/media/image78.png" ContentType="image/png"/>
  <Override PartName="/ppt/media/image69.jpeg" ContentType="image/jpeg"/>
  <Override PartName="/ppt/media/image9.wmf" ContentType="image/x-wmf"/>
  <Override PartName="/ppt/media/image77.png" ContentType="image/png"/>
  <Override PartName="/ppt/media/image76.png" ContentType="image/png"/>
  <Override PartName="/ppt/media/image64.png" ContentType="image/png"/>
  <Override PartName="/ppt/media/image73.png" ContentType="image/png"/>
  <Override PartName="/ppt/media/image70.png" ContentType="image/png"/>
  <Override PartName="/ppt/media/image68.png" ContentType="image/png"/>
  <Override PartName="/ppt/media/image63.png" ContentType="image/png"/>
  <Override PartName="/ppt/media/image17.png" ContentType="image/png"/>
  <Override PartName="/ppt/media/image39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25.jpeg" ContentType="image/jpeg"/>
  <Override PartName="/ppt/media/image19.jpeg" ContentType="image/jpeg"/>
  <Override PartName="/ppt/media/image18.png" ContentType="image/png"/>
  <Override PartName="/ppt/media/image42.jpeg" ContentType="image/jpeg"/>
  <Override PartName="/ppt/media/image11.png" ContentType="image/png"/>
  <Override PartName="/ppt/media/image48.png" ContentType="image/png"/>
  <Override PartName="/ppt/media/image52.png" ContentType="image/png"/>
  <Override PartName="/ppt/media/image82.wmf" ContentType="image/x-wmf"/>
  <Override PartName="/ppt/media/image5.wmf" ContentType="image/x-wmf"/>
  <Override PartName="/ppt/media/image27.jpeg" ContentType="image/jpeg"/>
  <Override PartName="/ppt/media/image23.jpeg" ContentType="image/jpeg"/>
  <Override PartName="/ppt/media/image8.png" ContentType="image/png"/>
  <Override PartName="/ppt/media/image85.png" ContentType="image/png"/>
  <Override PartName="/ppt/media/image1.png" ContentType="image/png"/>
  <Override PartName="/ppt/media/image13.png" ContentType="image/png"/>
  <Override PartName="/ppt/media/image22.jpeg" ContentType="image/jpeg"/>
  <Override PartName="/ppt/media/image75.png" ContentType="image/png"/>
  <Override PartName="/ppt/media/image84.png" ContentType="image/png"/>
  <Override PartName="/ppt/media/image7.png" ContentType="image/png"/>
  <Override PartName="/ppt/media/image34.jpeg" ContentType="image/jpeg"/>
  <Override PartName="/ppt/media/image2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EBB0-8948-4ACB-86B2-149758A0C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phacts is an imi project with an mou with ehr4c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B84A-92E9-4836-B947-DE0CED889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pecting Data Provi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sy to expose data to openphac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se RDF with dataset descri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ntactic interoperability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commendations over mandates (we recommend certain ontologies but do not require th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ap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ppings are cruc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ppings between terminologies and data and between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5E15-5332-4FBA-91C9-23745B51D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d triples 479,440,4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ed triples are larger because of additional data from wikipathway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 GB on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12 GB 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GB RAM / billion tr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7391-34E0-465A-BBBF-C15B61D1C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C5E6-35A2-4DF8-8ECE-B88BE66A0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complex reasoning has not been essential – basic semweb reasoning goes along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8727-14A4-46BF-89AF-8BEC1120E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issue here is that the same compound in two different databases might have subtle differences (salt forms, stereo chemistry etc). Integration systems often apply a “one size fits all rule” which aligns some, but not all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8C47-8BBC-440E-8747-BD2DBB72D4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 the shelf when 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ed data api = http://code.google.com/p/linked-data-api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ran a competitive call for t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F381-E756-4AD1-8288-77B69D393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CD59-0113-44BE-B807-CE0DF8EE95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ig servers: 330 gigabytes of ram, flash drives – pro triple st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commendation is easier but requires more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st, other formats – tsv, j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EBA5-8CD1-4C1E-85AF-4FA23F4C1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Very keen on further collabo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7352-D886-4791-A180-B569E3E05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) A platform for integrated pharmacology data based on open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2) Easy to build multiple drug discovery applic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) Deals with both public domain and commercial data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) Example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0D8A-6901-4374-A798-810711E16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prioritized business questions by phar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op priority business question – 5 people 6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F88F-2CDE-4758-B515-0FB003EB5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D6858-DD49-4F87-84A0-5C11C8CB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33787-CE38-4B33-804E-3E1C06F8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21B52-FBC1-4BD6-8CA5-855D1DD2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D4912-7D04-4ECB-98D2-20FA36A9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CF6A-766A-44AF-9EF8-BC040198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C2A0-29FF-48D9-8E25-20A9B86F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2660-497D-4E57-80E7-0EB0E054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515A-CC84-4B63-8E0D-F9B5A048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6F93-7C41-4FF4-B673-A8C213C8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7C58-CA32-4939-BC13-E7F17C8A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278C-11A9-46D4-B5BA-6DA593D5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346A0-C1A6-4EF8-A9A4-570CA52E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E2FD-FEF7-40C1-90D3-4CA19C14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9D67-B03B-4614-BEC3-12C2645E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2923-FBFF-4020-8135-A35BD66D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9C4B-30C2-42F3-A750-66BE37DB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F65F-6C44-4C80-914E-064D7755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DB52F-C675-42FC-862A-CAF95DC7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7E064-D750-4CA4-97B8-C3354649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76FDB-F041-4C84-9F67-912241B5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FCC0A-8C63-44B9-A63B-52CC9D56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0397B-FC14-4CE7-9728-155DAE31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9A35D-71DB-4AF9-BE8C-F054FFF5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77398-F78E-479A-A890-F8041DCF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E46F-A08F-401A-ACA3-A3EA1B1DAE4F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FC56-8F00-4FF0-A54C-C7E8B2C27F7B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3"/>
          <a:stretch/>
        </p:blipFill>
        <p:spPr>
          <a:xfrm>
            <a:off x="7164360" y="44280"/>
            <a:ext cx="1800360" cy="1122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2008080" cy="1641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5696-807B-41F0-9572-35D299825561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300C-E30B-4917-A251-9E20C056729B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5.wmf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5.wmf"/><Relationship Id="rId14" Type="http://schemas.openxmlformats.org/officeDocument/2006/relationships/image" Target="../media/image6.jpe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wmf"/><Relationship Id="rId18" Type="http://schemas.openxmlformats.org/officeDocument/2006/relationships/image" Target="../media/image10.wmf"/><Relationship Id="rId19" Type="http://schemas.openxmlformats.org/officeDocument/2006/relationships/image" Target="../media/image5.wmf"/><Relationship Id="rId20" Type="http://schemas.openxmlformats.org/officeDocument/2006/relationships/image" Target="../media/image6.jpe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wmf"/><Relationship Id="rId24" Type="http://schemas.openxmlformats.org/officeDocument/2006/relationships/image" Target="../media/image10.wmf"/><Relationship Id="rId25" Type="http://schemas.openxmlformats.org/officeDocument/2006/relationships/image" Target="../media/image5.wmf"/><Relationship Id="rId26" Type="http://schemas.openxmlformats.org/officeDocument/2006/relationships/image" Target="../media/image6.jpeg"/><Relationship Id="rId27" Type="http://schemas.openxmlformats.org/officeDocument/2006/relationships/image" Target="../media/image7.png"/><Relationship Id="rId28" Type="http://schemas.openxmlformats.org/officeDocument/2006/relationships/image" Target="../media/image8.png"/><Relationship Id="rId29" Type="http://schemas.openxmlformats.org/officeDocument/2006/relationships/image" Target="../media/image9.wmf"/><Relationship Id="rId30" Type="http://schemas.openxmlformats.org/officeDocument/2006/relationships/image" Target="../media/image10.wmf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penphacts.org/" TargetMode="External"/><Relationship Id="rId2" Type="http://schemas.openxmlformats.org/officeDocument/2006/relationships/hyperlink" Target="mailto:pmu@openphacts.or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30.jpeg"/><Relationship Id="rId14" Type="http://schemas.openxmlformats.org/officeDocument/2006/relationships/image" Target="../media/image31.jpeg"/><Relationship Id="rId15" Type="http://schemas.openxmlformats.org/officeDocument/2006/relationships/image" Target="../media/image32.jpeg"/><Relationship Id="rId16" Type="http://schemas.openxmlformats.org/officeDocument/2006/relationships/image" Target="../media/image33.jpeg"/><Relationship Id="rId17" Type="http://schemas.openxmlformats.org/officeDocument/2006/relationships/image" Target="../media/image34.jpeg"/><Relationship Id="rId18" Type="http://schemas.openxmlformats.org/officeDocument/2006/relationships/image" Target="../media/image35.jpe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jpeg"/><Relationship Id="rId23" Type="http://schemas.openxmlformats.org/officeDocument/2006/relationships/image" Target="../media/image40.jpeg"/><Relationship Id="rId24" Type="http://schemas.openxmlformats.org/officeDocument/2006/relationships/image" Target="../media/image41.jpeg"/><Relationship Id="rId25" Type="http://schemas.openxmlformats.org/officeDocument/2006/relationships/image" Target="../media/image42.jpeg"/><Relationship Id="rId26" Type="http://schemas.openxmlformats.org/officeDocument/2006/relationships/image" Target="../media/image43.jpe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63.png"/><Relationship Id="rId19" Type="http://schemas.openxmlformats.org/officeDocument/2006/relationships/image" Target="../media/image64.png"/><Relationship Id="rId20" Type="http://schemas.openxmlformats.org/officeDocument/2006/relationships/image" Target="../media/image65.png"/><Relationship Id="rId21" Type="http://schemas.openxmlformats.org/officeDocument/2006/relationships/image" Target="../media/image66.png"/><Relationship Id="rId22" Type="http://schemas.openxmlformats.org/officeDocument/2006/relationships/image" Target="../media/image67.png"/><Relationship Id="rId23" Type="http://schemas.openxmlformats.org/officeDocument/2006/relationships/image" Target="../media/image68.png"/><Relationship Id="rId24" Type="http://schemas.openxmlformats.org/officeDocument/2006/relationships/image" Target="../media/image69.jpeg"/><Relationship Id="rId25" Type="http://schemas.openxmlformats.org/officeDocument/2006/relationships/image" Target="../media/image70.png"/><Relationship Id="rId26" Type="http://schemas.openxmlformats.org/officeDocument/2006/relationships/image" Target="../media/image71.png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73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98989"/>
                </a:solidFill>
                <a:latin typeface="Calibri"/>
              </a:rPr>
              <a:t>Paul Groth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98989"/>
                </a:solidFill>
                <a:latin typeface="Calibri"/>
              </a:rPr>
              <a:t>http://www.few.vu.nl/~pgroth/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98989"/>
                </a:solidFill>
                <a:latin typeface="Calibri"/>
              </a:rPr>
              <a:t>@pgroth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98989"/>
                </a:solidFill>
                <a:latin typeface="Calibri"/>
              </a:rPr>
              <a:t>VU University Amsterdam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6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249C-0C9D-433A-8952-603EFA4A6456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Seite1"/>
          <p:cNvPicPr/>
          <p:nvPr/>
        </p:nvPicPr>
        <p:blipFill>
          <a:blip r:embed="rId1"/>
          <a:srcRect l="0" t="35950" r="41994" b="44008"/>
          <a:stretch/>
        </p:blipFill>
        <p:spPr>
          <a:xfrm>
            <a:off x="1835280" y="2133720"/>
            <a:ext cx="530532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F3C5-E8A4-4B62-B83D-7B8E4A54FC1A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7" descr="oscar-screenshot.png"/>
          <p:cNvPicPr/>
          <p:nvPr/>
        </p:nvPicPr>
        <p:blipFill>
          <a:blip r:embed="rId1"/>
          <a:stretch/>
        </p:blipFill>
        <p:spPr>
          <a:xfrm>
            <a:off x="2340000" y="0"/>
            <a:ext cx="6192720" cy="6496200"/>
          </a:xfrm>
          <a:prstGeom prst="rect">
            <a:avLst/>
          </a:prstGeom>
          <a:ln w="0">
            <a:noFill/>
          </a:ln>
        </p:spPr>
      </p:pic>
      <p:sp>
        <p:nvSpPr>
          <p:cNvPr id="322" name="TextBox 8"/>
          <p:cNvSpPr/>
          <p:nvPr/>
        </p:nvSpPr>
        <p:spPr>
          <a:xfrm>
            <a:off x="476640" y="19044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op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approach</a:t>
            </a:r>
            <a:br>
              <a:rPr sz="4400"/>
            </a:b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Principles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Respect data provider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Make it easy for application developer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86A8-03F5-42DC-BCE9-44C89D6288FB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approach</a:t>
            </a:r>
            <a:br>
              <a:rPr sz="4400"/>
            </a:b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A86E-DE22-42AE-B5ED-66D30CFED3BD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"/>
          <p:cNvPicPr/>
          <p:nvPr/>
        </p:nvPicPr>
        <p:blipFill>
          <a:blip r:embed="rId1"/>
          <a:stretch/>
        </p:blipFill>
        <p:spPr>
          <a:xfrm>
            <a:off x="417600" y="1125360"/>
            <a:ext cx="8451720" cy="4515120"/>
          </a:xfrm>
          <a:prstGeom prst="rect">
            <a:avLst/>
          </a:prstGeom>
          <a:ln w="0">
            <a:noFill/>
          </a:ln>
        </p:spPr>
      </p:pic>
      <p:sp>
        <p:nvSpPr>
          <p:cNvPr id="331" name="Up Arrow 6"/>
          <p:cNvSpPr/>
          <p:nvPr/>
        </p:nvSpPr>
        <p:spPr>
          <a:xfrm>
            <a:off x="826920" y="3068640"/>
            <a:ext cx="576360" cy="79200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Resources – Data set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F76D-8775-44F8-B03B-DBC962E1266A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Object 8"/>
          <p:cNvGraphicFramePr/>
          <p:nvPr/>
        </p:nvGraphicFramePr>
        <p:xfrm>
          <a:off x="826920" y="1916280"/>
          <a:ext cx="75153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16280"/>
                    <a:ext cx="75153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2"/>
          <p:cNvSpPr/>
          <p:nvPr/>
        </p:nvSpPr>
        <p:spPr>
          <a:xfrm>
            <a:off x="-252360" y="765000"/>
            <a:ext cx="7993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6352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14,535,923 tr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16352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Resources - Mapping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ED81-9C1C-418F-9D4E-25C461FC5F56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rcRect l="0" t="0" r="21360" b="0"/>
          <a:stretch/>
        </p:blipFill>
        <p:spPr>
          <a:xfrm>
            <a:off x="2556000" y="981000"/>
            <a:ext cx="2952720" cy="51386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"/>
          <p:cNvPicPr/>
          <p:nvPr/>
        </p:nvPicPr>
        <p:blipFill>
          <a:blip r:embed="rId2"/>
          <a:srcRect l="0" t="0" r="19458" b="0"/>
          <a:stretch/>
        </p:blipFill>
        <p:spPr>
          <a:xfrm>
            <a:off x="5867280" y="981000"/>
            <a:ext cx="2665440" cy="48960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7"/>
          <p:cNvSpPr/>
          <p:nvPr/>
        </p:nvSpPr>
        <p:spPr>
          <a:xfrm>
            <a:off x="224280" y="2276640"/>
            <a:ext cx="224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 Mill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pp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Semantic resources - Summary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ypes of semantic resource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RDF Dataset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Mapping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Terminologie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Mesh, UMLS, NCIM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Hierarchies are essential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E.G. Target Ontology, Gene Ontology, Enzyme classification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Class reasoning is essential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6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5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4531-D22A-4B80-816B-3ED71B6627EA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4604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Methodology for semantic integration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8000" y="126828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Define use cases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Data Providers – create RDF with VoID header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Create mappings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between dataset and known datasets (instance level)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index for text to url conversion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Ingest RDF into data cache (i.e. triple store)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Define access paths to core concepts in data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Extend or create sparql queries for API call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Publish api call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0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3BEA-E454-44CE-994F-CA1E37D2F2E6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4319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8a54"/>
                </a:solidFill>
                <a:latin typeface="Calibri"/>
              </a:rPr>
              <a:t>Its easy to integrate, but difficult to integrate well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</p:txBody>
      </p:sp>
      <p:grpSp>
        <p:nvGrpSpPr>
          <p:cNvPr id="353" name="Group 6"/>
          <p:cNvGrpSpPr/>
          <p:nvPr/>
        </p:nvGrpSpPr>
        <p:grpSpPr>
          <a:xfrm>
            <a:off x="507960" y="1324080"/>
            <a:ext cx="8115480" cy="3733560"/>
            <a:chOff x="507960" y="1324080"/>
            <a:chExt cx="8115480" cy="3733560"/>
          </a:xfrm>
        </p:grpSpPr>
        <p:pic>
          <p:nvPicPr>
            <p:cNvPr id="354" name="Picture 4" descr=""/>
            <p:cNvPicPr/>
            <p:nvPr/>
          </p:nvPicPr>
          <p:blipFill>
            <a:blip r:embed="rId1"/>
            <a:stretch/>
          </p:blipFill>
          <p:spPr>
            <a:xfrm>
              <a:off x="507960" y="1324080"/>
              <a:ext cx="8115480" cy="37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Rectangle 5"/>
            <p:cNvSpPr/>
            <p:nvPr/>
          </p:nvSpPr>
          <p:spPr>
            <a:xfrm>
              <a:off x="612720" y="2462040"/>
              <a:ext cx="3122640" cy="46188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Adoption of standard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446a"/>
                </a:solidFill>
                <a:latin typeface="Calibri"/>
              </a:rPr>
              <a:t>Basic Semweb standards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446a"/>
                </a:solidFill>
                <a:latin typeface="Calibri"/>
              </a:rPr>
              <a:t>SPARQL 1.1, RDF(S), SKO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446a"/>
                </a:solidFill>
                <a:latin typeface="Calibri"/>
              </a:rPr>
              <a:t>Dataset descriptions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446a"/>
                </a:solidFill>
                <a:latin typeface="Calibri"/>
              </a:rPr>
              <a:t>Vocabulary of Interlinked Datasets (VoID)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446a"/>
                </a:solidFill>
                <a:latin typeface="Calibri"/>
              </a:rPr>
              <a:t>VoID linkset description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446a"/>
                </a:solidFill>
                <a:latin typeface="Calibri"/>
              </a:rPr>
              <a:t>QUDT Quantities, Units, Dimensions and Types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446a"/>
                </a:solidFill>
                <a:latin typeface="Calibri"/>
              </a:rPr>
              <a:t>Provenance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446a"/>
                </a:solidFill>
                <a:latin typeface="Calibri"/>
              </a:rPr>
              <a:t>W3C PROV, PAV, Nanopublication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446a"/>
                </a:solidFill>
                <a:latin typeface="Calibri"/>
              </a:rPr>
              <a:t>BioPortal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8E1E-912E-451B-9AEB-0FEB18E91CD7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Tooling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446a"/>
                </a:solidFill>
                <a:latin typeface="Calibri"/>
              </a:rPr>
              <a:t>Infrastructure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Linked Data API 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Bridge DB - identifier to identifier mapping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Concept Wiki - text to identifier mapping and curation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Chemspider: chemistry registration and service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Triple Store: Virtuoso Professional addition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446a"/>
                </a:solidFill>
                <a:latin typeface="Calibri"/>
              </a:rPr>
              <a:t>Data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VoID descriptions and http and ftp site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Github for data conversion script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Recommend turtle as RDF syntax 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friendly for scripting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2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5C98-A3E3-444F-A66E-5B3EA5EF5445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80880" y="8366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8a54"/>
                </a:solidFill>
                <a:latin typeface="Calibri"/>
              </a:rPr>
              <a:t>We are all doing this many times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0"/>
          <p:cNvGrpSpPr/>
          <p:nvPr/>
        </p:nvGrpSpPr>
        <p:grpSpPr>
          <a:xfrm>
            <a:off x="122400" y="836640"/>
            <a:ext cx="5386320" cy="2924280"/>
            <a:chOff x="122400" y="836640"/>
            <a:chExt cx="5386320" cy="2924280"/>
          </a:xfrm>
        </p:grpSpPr>
        <p:sp>
          <p:nvSpPr>
            <p:cNvPr id="101" name="Round Diagonal Corner Rectangle 143"/>
            <p:cNvSpPr/>
            <p:nvPr/>
          </p:nvSpPr>
          <p:spPr>
            <a:xfrm>
              <a:off x="122400" y="1407960"/>
              <a:ext cx="5386320" cy="2352960"/>
            </a:xfrm>
            <a:custGeom>
              <a:avLst/>
              <a:gdLst/>
              <a:ahLst/>
              <a:rect l="l" t="t" r="r" b="b"/>
              <a:pathLst>
                <a:path w="5386894" h="2352734">
                  <a:moveTo>
                    <a:pt x="392130" y="0"/>
                  </a:moveTo>
                  <a:lnTo>
                    <a:pt x="5386894" y="0"/>
                  </a:lnTo>
                  <a:lnTo>
                    <a:pt x="5386894" y="0"/>
                  </a:lnTo>
                  <a:lnTo>
                    <a:pt x="5386894" y="1960604"/>
                  </a:lnTo>
                  <a:cubicBezTo>
                    <a:pt x="5386894" y="2177171"/>
                    <a:pt x="5211331" y="2352734"/>
                    <a:pt x="4994764" y="2352734"/>
                  </a:cubicBezTo>
                  <a:lnTo>
                    <a:pt x="0" y="2352734"/>
                  </a:lnTo>
                  <a:lnTo>
                    <a:pt x="0" y="2352734"/>
                  </a:lnTo>
                  <a:lnTo>
                    <a:pt x="0" y="392130"/>
                  </a:lnTo>
                  <a:cubicBezTo>
                    <a:pt x="0" y="175563"/>
                    <a:pt x="175563" y="0"/>
                    <a:pt x="3921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a7ccb"/>
                </a:gs>
                <a:gs pos="100000">
                  <a:srgbClr val="2c5d98"/>
                </a:gs>
              </a:gsLst>
              <a:lin ang="5400000"/>
            </a:gradFill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142"/>
            <p:cNvGrpSpPr/>
            <p:nvPr/>
          </p:nvGrpSpPr>
          <p:grpSpPr>
            <a:xfrm>
              <a:off x="348840" y="836640"/>
              <a:ext cx="5029200" cy="2908800"/>
              <a:chOff x="348840" y="836640"/>
              <a:chExt cx="5029200" cy="2908800"/>
            </a:xfrm>
          </p:grpSpPr>
          <p:grpSp>
            <p:nvGrpSpPr>
              <p:cNvPr id="103" name="Group 118"/>
              <p:cNvGrpSpPr/>
              <p:nvPr/>
            </p:nvGrpSpPr>
            <p:grpSpPr>
              <a:xfrm>
                <a:off x="348840" y="836640"/>
                <a:ext cx="5029200" cy="2908800"/>
                <a:chOff x="348840" y="836640"/>
                <a:chExt cx="5029200" cy="2908800"/>
              </a:xfrm>
            </p:grpSpPr>
            <p:grpSp>
              <p:nvGrpSpPr>
                <p:cNvPr id="104" name="Group 18"/>
                <p:cNvGrpSpPr/>
                <p:nvPr/>
              </p:nvGrpSpPr>
              <p:grpSpPr>
                <a:xfrm>
                  <a:off x="1709280" y="836640"/>
                  <a:ext cx="2947320" cy="1214640"/>
                  <a:chOff x="1709280" y="836640"/>
                  <a:chExt cx="2947320" cy="1214640"/>
                </a:xfrm>
              </p:grpSpPr>
              <p:sp>
                <p:nvSpPr>
                  <p:cNvPr id="105" name="Line 11"/>
                  <p:cNvSpPr/>
                  <p:nvPr/>
                </p:nvSpPr>
                <p:spPr>
                  <a:xfrm>
                    <a:off x="1709280" y="2051280"/>
                    <a:ext cx="517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13"/>
                  <p:cNvSpPr/>
                  <p:nvPr/>
                </p:nvSpPr>
                <p:spPr>
                  <a:xfrm>
                    <a:off x="4656600" y="836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7" name="Picture 1" descr="C:\Documents and Settings\williams_bi\Local Settings\Temporary Internet Files\Content.IE5\NCB4CN79\MC900311860[1].wm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94280" y="1626840"/>
                  <a:ext cx="1144080" cy="857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Picture 3" descr="C:\Documents and Settings\williams_bi\Local Settings\Temporary Internet Files\Content.IE5\O5HQD79B\MP900402692[1].jp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307240" y="1681560"/>
                  <a:ext cx="1256040" cy="81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Picture 5" descr="C:\Documents and Settings\williams_bi\Local Settings\Temporary Internet Files\Content.IE5\PJ71VBD2\MC900431499[1]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147920" y="2885760"/>
                  <a:ext cx="1153800" cy="824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Picture 6" descr="C:\Documents and Settings\williams_bi\Local Settings\Temporary Internet Files\Content.IE5\KD2YG92R\MC900432644[1].png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296240" y="1613160"/>
                  <a:ext cx="1081800" cy="87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7" descr="C:\Documents and Settings\williams_bi\Local Settings\Temporary Internet Files\Content.IE5\1AMI4QH7\MC900059570[1].wmf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26600" y="2885760"/>
                  <a:ext cx="1114200" cy="79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" name="Line 12"/>
                <p:cNvSpPr/>
                <p:nvPr/>
              </p:nvSpPr>
              <p:spPr>
                <a:xfrm>
                  <a:off x="3598920" y="2050920"/>
                  <a:ext cx="549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 flipH="1">
                  <a:off x="3420000" y="3273480"/>
                  <a:ext cx="549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12"/>
                <p:cNvSpPr/>
                <p:nvPr/>
              </p:nvSpPr>
              <p:spPr>
                <a:xfrm flipH="1">
                  <a:off x="1523880" y="3273480"/>
                  <a:ext cx="549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15" name="Picture 9" descr="C:\Documents and Settings\williams_bi\Local Settings\Temporary Internet Files\Content.IE5\J3TDAGIZ\MC900059634[1].wmf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48840" y="2885760"/>
                  <a:ext cx="1063440" cy="85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6" name="Line 13"/>
              <p:cNvSpPr/>
              <p:nvPr/>
            </p:nvSpPr>
            <p:spPr>
              <a:xfrm>
                <a:off x="4809960" y="2423160"/>
                <a:ext cx="0" cy="46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Box 134"/>
          <p:cNvSpPr/>
          <p:nvPr/>
        </p:nvSpPr>
        <p:spPr>
          <a:xfrm>
            <a:off x="4739040" y="10382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48a54"/>
                </a:solidFill>
                <a:latin typeface="Arial"/>
              </a:rPr>
              <a:t>Pf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212"/>
          <p:cNvGrpSpPr/>
          <p:nvPr/>
        </p:nvGrpSpPr>
        <p:grpSpPr>
          <a:xfrm>
            <a:off x="646200" y="1174680"/>
            <a:ext cx="5386320" cy="2924280"/>
            <a:chOff x="646200" y="1174680"/>
            <a:chExt cx="5386320" cy="2924280"/>
          </a:xfrm>
        </p:grpSpPr>
        <p:grpSp>
          <p:nvGrpSpPr>
            <p:cNvPr id="119" name="Group 135"/>
            <p:cNvGrpSpPr/>
            <p:nvPr/>
          </p:nvGrpSpPr>
          <p:grpSpPr>
            <a:xfrm>
              <a:off x="646200" y="1174680"/>
              <a:ext cx="5386320" cy="2924280"/>
              <a:chOff x="646200" y="1174680"/>
              <a:chExt cx="5386320" cy="2924280"/>
            </a:xfrm>
          </p:grpSpPr>
          <p:sp>
            <p:nvSpPr>
              <p:cNvPr id="120" name="Round Diagonal Corner Rectangle 136"/>
              <p:cNvSpPr/>
              <p:nvPr/>
            </p:nvSpPr>
            <p:spPr>
              <a:xfrm>
                <a:off x="646200" y="1746000"/>
                <a:ext cx="5386320" cy="2352960"/>
              </a:xfrm>
              <a:custGeom>
                <a:avLst/>
                <a:gdLst/>
                <a:ahLst/>
                <a:rect l="l" t="t" r="r" b="b"/>
                <a:pathLst>
                  <a:path w="5386894" h="2352734">
                    <a:moveTo>
                      <a:pt x="392130" y="0"/>
                    </a:moveTo>
                    <a:lnTo>
                      <a:pt x="5386894" y="0"/>
                    </a:lnTo>
                    <a:lnTo>
                      <a:pt x="5386894" y="0"/>
                    </a:lnTo>
                    <a:lnTo>
                      <a:pt x="5386894" y="1960604"/>
                    </a:lnTo>
                    <a:cubicBezTo>
                      <a:pt x="5386894" y="2177171"/>
                      <a:pt x="5211331" y="2352734"/>
                      <a:pt x="4994764" y="2352734"/>
                    </a:cubicBezTo>
                    <a:lnTo>
                      <a:pt x="0" y="2352734"/>
                    </a:lnTo>
                    <a:lnTo>
                      <a:pt x="0" y="2352734"/>
                    </a:lnTo>
                    <a:lnTo>
                      <a:pt x="0" y="392130"/>
                    </a:lnTo>
                    <a:cubicBezTo>
                      <a:pt x="0" y="175563"/>
                      <a:pt x="175563" y="0"/>
                      <a:pt x="3921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a7ccb"/>
                  </a:gs>
                  <a:gs pos="100000">
                    <a:srgbClr val="2c5d98"/>
                  </a:gs>
                </a:gsLst>
                <a:lin ang="5400000"/>
              </a:gra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Group 142"/>
              <p:cNvGrpSpPr/>
              <p:nvPr/>
            </p:nvGrpSpPr>
            <p:grpSpPr>
              <a:xfrm>
                <a:off x="872640" y="1174680"/>
                <a:ext cx="5029200" cy="2908800"/>
                <a:chOff x="872640" y="1174680"/>
                <a:chExt cx="5029200" cy="2908800"/>
              </a:xfrm>
            </p:grpSpPr>
            <p:grpSp>
              <p:nvGrpSpPr>
                <p:cNvPr id="122" name="Group 118"/>
                <p:cNvGrpSpPr/>
                <p:nvPr/>
              </p:nvGrpSpPr>
              <p:grpSpPr>
                <a:xfrm>
                  <a:off x="872640" y="1174680"/>
                  <a:ext cx="5029200" cy="2908800"/>
                  <a:chOff x="872640" y="1174680"/>
                  <a:chExt cx="5029200" cy="2908800"/>
                </a:xfrm>
              </p:grpSpPr>
              <p:grpSp>
                <p:nvGrpSpPr>
                  <p:cNvPr id="123" name="Group 18"/>
                  <p:cNvGrpSpPr/>
                  <p:nvPr/>
                </p:nvGrpSpPr>
                <p:grpSpPr>
                  <a:xfrm>
                    <a:off x="2233080" y="1174680"/>
                    <a:ext cx="2947320" cy="1402200"/>
                    <a:chOff x="2233080" y="1174680"/>
                    <a:chExt cx="2947320" cy="1402200"/>
                  </a:xfrm>
                </p:grpSpPr>
                <p:sp>
                  <p:nvSpPr>
                    <p:cNvPr id="124" name="Line 11"/>
                    <p:cNvSpPr/>
                    <p:nvPr/>
                  </p:nvSpPr>
                  <p:spPr>
                    <a:xfrm>
                      <a:off x="2233080" y="2576880"/>
                      <a:ext cx="517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Line 13"/>
                    <p:cNvSpPr/>
                    <p:nvPr/>
                  </p:nvSpPr>
                  <p:spPr>
                    <a:xfrm>
                      <a:off x="5180400" y="1174680"/>
                      <a:ext cx="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26" name="Picture 1" descr="C:\Documents and Settings\williams_bi\Local Settings\Temporary Internet Files\Content.IE5\NCB4CN79\MC900311860[1].wmf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18080" y="1964880"/>
                    <a:ext cx="1144080" cy="8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7" name="Picture 3" descr="C:\Documents and Settings\williams_bi\Local Settings\Temporary Internet Files\Content.IE5\O5HQD79B\MP900402692[1].jpg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31040" y="2019600"/>
                    <a:ext cx="1256040" cy="8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8" name="Picture 5" descr="C:\Documents and Settings\williams_bi\Local Settings\Temporary Internet Files\Content.IE5\PJ71VBD2\MC900431499[1].png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71720" y="3223800"/>
                    <a:ext cx="115380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9" name="Picture 6" descr="C:\Documents and Settings\williams_bi\Local Settings\Temporary Internet Files\Content.IE5\KD2YG92R\MC900432644[1].png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20040" y="1951200"/>
                    <a:ext cx="10818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0" name="Picture 7" descr="C:\Documents and Settings\williams_bi\Local Settings\Temporary Internet Files\Content.IE5\1AMI4QH7\MC900059570[1].wmf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50400" y="3223800"/>
                    <a:ext cx="111420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1" name="Line 12"/>
                  <p:cNvSpPr/>
                  <p:nvPr/>
                </p:nvSpPr>
                <p:spPr>
                  <a:xfrm>
                    <a:off x="4122720" y="238932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Line 12"/>
                  <p:cNvSpPr/>
                  <p:nvPr/>
                </p:nvSpPr>
                <p:spPr>
                  <a:xfrm flipH="1">
                    <a:off x="3944520" y="361188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12"/>
                  <p:cNvSpPr/>
                  <p:nvPr/>
                </p:nvSpPr>
                <p:spPr>
                  <a:xfrm flipH="1">
                    <a:off x="2047320" y="361188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34" name="Picture 9" descr="C:\Documents and Settings\williams_bi\Local Settings\Temporary Internet Files\Content.IE5\J3TDAGIZ\MC900059634[1].wmf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72640" y="3223800"/>
                    <a:ext cx="1063440" cy="8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35" name="Line 13"/>
                <p:cNvSpPr/>
                <p:nvPr/>
              </p:nvSpPr>
              <p:spPr>
                <a:xfrm>
                  <a:off x="5334120" y="2760840"/>
                  <a:ext cx="0" cy="46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" name="TextBox 157"/>
            <p:cNvSpPr/>
            <p:nvPr/>
          </p:nvSpPr>
          <p:spPr>
            <a:xfrm>
              <a:off x="5556240" y="137628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Arial"/>
                </a:rPr>
                <a:t>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213"/>
          <p:cNvGrpSpPr/>
          <p:nvPr/>
        </p:nvGrpSpPr>
        <p:grpSpPr>
          <a:xfrm>
            <a:off x="1251000" y="1514520"/>
            <a:ext cx="5576040" cy="2924280"/>
            <a:chOff x="1251000" y="1514520"/>
            <a:chExt cx="5576040" cy="2924280"/>
          </a:xfrm>
        </p:grpSpPr>
        <p:grpSp>
          <p:nvGrpSpPr>
            <p:cNvPr id="138" name="Group 158"/>
            <p:cNvGrpSpPr/>
            <p:nvPr/>
          </p:nvGrpSpPr>
          <p:grpSpPr>
            <a:xfrm>
              <a:off x="1251000" y="1514520"/>
              <a:ext cx="5387760" cy="2924280"/>
              <a:chOff x="1251000" y="1514520"/>
              <a:chExt cx="5387760" cy="2924280"/>
            </a:xfrm>
          </p:grpSpPr>
          <p:sp>
            <p:nvSpPr>
              <p:cNvPr id="139" name="Round Diagonal Corner Rectangle 159"/>
              <p:cNvSpPr/>
              <p:nvPr/>
            </p:nvSpPr>
            <p:spPr>
              <a:xfrm>
                <a:off x="1251000" y="2085840"/>
                <a:ext cx="5387760" cy="2352960"/>
              </a:xfrm>
              <a:custGeom>
                <a:avLst/>
                <a:gdLst/>
                <a:ahLst/>
                <a:rect l="l" t="t" r="r" b="b"/>
                <a:pathLst>
                  <a:path w="5387195" h="2352734">
                    <a:moveTo>
                      <a:pt x="392130" y="0"/>
                    </a:moveTo>
                    <a:lnTo>
                      <a:pt x="5387195" y="0"/>
                    </a:lnTo>
                    <a:lnTo>
                      <a:pt x="5387195" y="0"/>
                    </a:lnTo>
                    <a:lnTo>
                      <a:pt x="5387195" y="1960604"/>
                    </a:lnTo>
                    <a:cubicBezTo>
                      <a:pt x="5387195" y="2177171"/>
                      <a:pt x="5211632" y="2352734"/>
                      <a:pt x="4995065" y="2352734"/>
                    </a:cubicBezTo>
                    <a:lnTo>
                      <a:pt x="0" y="2352734"/>
                    </a:lnTo>
                    <a:lnTo>
                      <a:pt x="0" y="2352734"/>
                    </a:lnTo>
                    <a:lnTo>
                      <a:pt x="0" y="392130"/>
                    </a:lnTo>
                    <a:cubicBezTo>
                      <a:pt x="0" y="175563"/>
                      <a:pt x="175563" y="0"/>
                      <a:pt x="3921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a7ccb"/>
                  </a:gs>
                  <a:gs pos="100000">
                    <a:srgbClr val="2c5d98"/>
                  </a:gs>
                </a:gsLst>
                <a:lin ang="5400000"/>
              </a:gra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142"/>
              <p:cNvGrpSpPr/>
              <p:nvPr/>
            </p:nvGrpSpPr>
            <p:grpSpPr>
              <a:xfrm>
                <a:off x="1477440" y="1514520"/>
                <a:ext cx="5030280" cy="2908800"/>
                <a:chOff x="1477440" y="1514520"/>
                <a:chExt cx="5030280" cy="2908800"/>
              </a:xfrm>
            </p:grpSpPr>
            <p:grpSp>
              <p:nvGrpSpPr>
                <p:cNvPr id="141" name="Group 118"/>
                <p:cNvGrpSpPr/>
                <p:nvPr/>
              </p:nvGrpSpPr>
              <p:grpSpPr>
                <a:xfrm>
                  <a:off x="1477440" y="1514520"/>
                  <a:ext cx="5030280" cy="2908800"/>
                  <a:chOff x="1477440" y="1514520"/>
                  <a:chExt cx="5030280" cy="2908800"/>
                </a:xfrm>
              </p:grpSpPr>
              <p:grpSp>
                <p:nvGrpSpPr>
                  <p:cNvPr id="142" name="Group 18"/>
                  <p:cNvGrpSpPr/>
                  <p:nvPr/>
                </p:nvGrpSpPr>
                <p:grpSpPr>
                  <a:xfrm>
                    <a:off x="2838240" y="1514520"/>
                    <a:ext cx="2948040" cy="1402200"/>
                    <a:chOff x="2838240" y="1514520"/>
                    <a:chExt cx="2948040" cy="1402200"/>
                  </a:xfrm>
                </p:grpSpPr>
                <p:sp>
                  <p:nvSpPr>
                    <p:cNvPr id="143" name="Line 11"/>
                    <p:cNvSpPr/>
                    <p:nvPr/>
                  </p:nvSpPr>
                  <p:spPr>
                    <a:xfrm>
                      <a:off x="2838240" y="2916720"/>
                      <a:ext cx="516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13"/>
                    <p:cNvSpPr/>
                    <p:nvPr/>
                  </p:nvSpPr>
                  <p:spPr>
                    <a:xfrm>
                      <a:off x="5786280" y="1514520"/>
                      <a:ext cx="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45" name="Picture 1" descr="C:\Documents and Settings\williams_bi\Local Settings\Temporary Internet Files\Content.IE5\NCB4CN79\MC900311860[1].wmf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22880" y="2304720"/>
                    <a:ext cx="1144440" cy="8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Picture 3" descr="C:\Documents and Settings\williams_bi\Local Settings\Temporary Internet Files\Content.IE5\O5HQD79B\MP900402692[1].jpg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36560" y="2359440"/>
                    <a:ext cx="1256400" cy="8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7" name="Picture 5" descr="C:\Documents and Settings\williams_bi\Local Settings\Temporary Internet Files\Content.IE5\PJ71VBD2\MC900431499[1].png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77240" y="3563640"/>
                    <a:ext cx="115416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8" name="Picture 6" descr="C:\Documents and Settings\williams_bi\Local Settings\Temporary Internet Files\Content.IE5\KD2YG92R\MC900432644[1].png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25560" y="2291040"/>
                    <a:ext cx="108216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9" name="Picture 7" descr="C:\Documents and Settings\williams_bi\Local Settings\Temporary Internet Files\Content.IE5\1AMI4QH7\MC900059570[1].wmf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355560" y="3563640"/>
                    <a:ext cx="111456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0" name="Line 12"/>
                  <p:cNvSpPr/>
                  <p:nvPr/>
                </p:nvSpPr>
                <p:spPr>
                  <a:xfrm>
                    <a:off x="4728960" y="272916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12"/>
                  <p:cNvSpPr/>
                  <p:nvPr/>
                </p:nvSpPr>
                <p:spPr>
                  <a:xfrm flipH="1">
                    <a:off x="4549320" y="395172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12"/>
                  <p:cNvSpPr/>
                  <p:nvPr/>
                </p:nvSpPr>
                <p:spPr>
                  <a:xfrm flipH="1">
                    <a:off x="2653560" y="395172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53" name="Picture 9" descr="C:\Documents and Settings\williams_bi\Local Settings\Temporary Internet Files\Content.IE5\J3TDAGIZ\MC900059634[1].wmf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77440" y="3563640"/>
                    <a:ext cx="1063800" cy="8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54" name="Line 13"/>
                <p:cNvSpPr/>
                <p:nvPr/>
              </p:nvSpPr>
              <p:spPr>
                <a:xfrm>
                  <a:off x="5940360" y="3100680"/>
                  <a:ext cx="0" cy="46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" name="TextBox 175"/>
            <p:cNvSpPr/>
            <p:nvPr/>
          </p:nvSpPr>
          <p:spPr>
            <a:xfrm>
              <a:off x="6163200" y="171612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Arial"/>
                </a:rPr>
                <a:t>G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214"/>
          <p:cNvGrpSpPr/>
          <p:nvPr/>
        </p:nvGrpSpPr>
        <p:grpSpPr>
          <a:xfrm>
            <a:off x="1835280" y="1909800"/>
            <a:ext cx="5716080" cy="2924280"/>
            <a:chOff x="1835280" y="1909800"/>
            <a:chExt cx="5716080" cy="2924280"/>
          </a:xfrm>
        </p:grpSpPr>
        <p:grpSp>
          <p:nvGrpSpPr>
            <p:cNvPr id="157" name="Group 176"/>
            <p:cNvGrpSpPr/>
            <p:nvPr/>
          </p:nvGrpSpPr>
          <p:grpSpPr>
            <a:xfrm>
              <a:off x="1835280" y="1909800"/>
              <a:ext cx="5387760" cy="2924280"/>
              <a:chOff x="1835280" y="1909800"/>
              <a:chExt cx="5387760" cy="2924280"/>
            </a:xfrm>
          </p:grpSpPr>
          <p:sp>
            <p:nvSpPr>
              <p:cNvPr id="158" name="Round Diagonal Corner Rectangle 177"/>
              <p:cNvSpPr/>
              <p:nvPr/>
            </p:nvSpPr>
            <p:spPr>
              <a:xfrm>
                <a:off x="1835280" y="2481120"/>
                <a:ext cx="5387760" cy="2352960"/>
              </a:xfrm>
              <a:custGeom>
                <a:avLst/>
                <a:gdLst/>
                <a:ahLst/>
                <a:rect l="l" t="t" r="r" b="b"/>
                <a:pathLst>
                  <a:path w="5387004" h="2352734">
                    <a:moveTo>
                      <a:pt x="392130" y="0"/>
                    </a:moveTo>
                    <a:lnTo>
                      <a:pt x="5387004" y="0"/>
                    </a:lnTo>
                    <a:lnTo>
                      <a:pt x="5387004" y="0"/>
                    </a:lnTo>
                    <a:lnTo>
                      <a:pt x="5387004" y="1960604"/>
                    </a:lnTo>
                    <a:cubicBezTo>
                      <a:pt x="5387004" y="2177171"/>
                      <a:pt x="5211441" y="2352734"/>
                      <a:pt x="4994874" y="2352734"/>
                    </a:cubicBezTo>
                    <a:lnTo>
                      <a:pt x="0" y="2352734"/>
                    </a:lnTo>
                    <a:lnTo>
                      <a:pt x="0" y="2352734"/>
                    </a:lnTo>
                    <a:lnTo>
                      <a:pt x="0" y="392130"/>
                    </a:lnTo>
                    <a:cubicBezTo>
                      <a:pt x="0" y="175563"/>
                      <a:pt x="175563" y="0"/>
                      <a:pt x="3921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a7ccb"/>
                  </a:gs>
                  <a:gs pos="100000">
                    <a:srgbClr val="2c5d98"/>
                  </a:gs>
                </a:gsLst>
                <a:lin ang="5400000"/>
              </a:gra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Group 142"/>
              <p:cNvGrpSpPr/>
              <p:nvPr/>
            </p:nvGrpSpPr>
            <p:grpSpPr>
              <a:xfrm>
                <a:off x="2061720" y="1909800"/>
                <a:ext cx="5030640" cy="2908800"/>
                <a:chOff x="2061720" y="1909800"/>
                <a:chExt cx="5030640" cy="2908800"/>
              </a:xfrm>
            </p:grpSpPr>
            <p:grpSp>
              <p:nvGrpSpPr>
                <p:cNvPr id="160" name="Group 118"/>
                <p:cNvGrpSpPr/>
                <p:nvPr/>
              </p:nvGrpSpPr>
              <p:grpSpPr>
                <a:xfrm>
                  <a:off x="2061720" y="1909800"/>
                  <a:ext cx="5030640" cy="2908800"/>
                  <a:chOff x="2061720" y="1909800"/>
                  <a:chExt cx="5030640" cy="2908800"/>
                </a:xfrm>
              </p:grpSpPr>
              <p:grpSp>
                <p:nvGrpSpPr>
                  <p:cNvPr id="161" name="Group 18"/>
                  <p:cNvGrpSpPr/>
                  <p:nvPr/>
                </p:nvGrpSpPr>
                <p:grpSpPr>
                  <a:xfrm>
                    <a:off x="3422520" y="1909800"/>
                    <a:ext cx="2948400" cy="1402200"/>
                    <a:chOff x="3422520" y="1909800"/>
                    <a:chExt cx="2948400" cy="1402200"/>
                  </a:xfrm>
                </p:grpSpPr>
                <p:sp>
                  <p:nvSpPr>
                    <p:cNvPr id="162" name="Line 11"/>
                    <p:cNvSpPr/>
                    <p:nvPr/>
                  </p:nvSpPr>
                  <p:spPr>
                    <a:xfrm>
                      <a:off x="3422520" y="3312000"/>
                      <a:ext cx="518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Line 13"/>
                    <p:cNvSpPr/>
                    <p:nvPr/>
                  </p:nvSpPr>
                  <p:spPr>
                    <a:xfrm>
                      <a:off x="6370920" y="1909800"/>
                      <a:ext cx="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64" name="Picture 1" descr="C:\Documents and Settings\williams_bi\Local Settings\Temporary Internet Files\Content.IE5\NCB4CN79\MC900311860[1].wmf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207160" y="2700000"/>
                    <a:ext cx="1144440" cy="8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5" name="Picture 3" descr="C:\Documents and Settings\williams_bi\Local Settings\Temporary Internet Files\Content.IE5\O5HQD79B\MP900402692[1].jpg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020840" y="2754720"/>
                    <a:ext cx="1256400" cy="8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6" name="Picture 5" descr="C:\Documents and Settings\williams_bi\Local Settings\Temporary Internet Files\Content.IE5\PJ71VBD2\MC900431499[1].png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861880" y="3958920"/>
                    <a:ext cx="115416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7" name="Picture 6" descr="C:\Documents and Settings\williams_bi\Local Settings\Temporary Internet Files\Content.IE5\KD2YG92R\MC900432644[1].png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10200" y="2686320"/>
                    <a:ext cx="108216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Picture 7" descr="C:\Documents and Settings\williams_bi\Local Settings\Temporary Internet Files\Content.IE5\1AMI4QH7\MC900059570[1].wmf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939840" y="3958920"/>
                    <a:ext cx="111456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" name="Line 12"/>
                  <p:cNvSpPr/>
                  <p:nvPr/>
                </p:nvSpPr>
                <p:spPr>
                  <a:xfrm>
                    <a:off x="5312520" y="312408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2"/>
                  <p:cNvSpPr/>
                  <p:nvPr/>
                </p:nvSpPr>
                <p:spPr>
                  <a:xfrm flipH="1">
                    <a:off x="5133960" y="434664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2"/>
                  <p:cNvSpPr/>
                  <p:nvPr/>
                </p:nvSpPr>
                <p:spPr>
                  <a:xfrm flipH="1">
                    <a:off x="3237120" y="434664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72" name="Picture 9" descr="C:\Documents and Settings\williams_bi\Local Settings\Temporary Internet Files\Content.IE5\J3TDAGIZ\MC900059634[1].wmf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061720" y="3958920"/>
                    <a:ext cx="1063800" cy="8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73" name="Line 13"/>
                <p:cNvSpPr/>
                <p:nvPr/>
              </p:nvSpPr>
              <p:spPr>
                <a:xfrm>
                  <a:off x="6524280" y="3496320"/>
                  <a:ext cx="0" cy="46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4" name="TextBox 193"/>
            <p:cNvSpPr/>
            <p:nvPr/>
          </p:nvSpPr>
          <p:spPr>
            <a:xfrm>
              <a:off x="6748920" y="211140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Arial"/>
                </a:rPr>
                <a:t>Mer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15"/>
          <p:cNvGrpSpPr/>
          <p:nvPr/>
        </p:nvGrpSpPr>
        <p:grpSpPr>
          <a:xfrm>
            <a:off x="3238560" y="2976480"/>
            <a:ext cx="5386320" cy="2924280"/>
            <a:chOff x="3238560" y="2976480"/>
            <a:chExt cx="5386320" cy="2924280"/>
          </a:xfrm>
        </p:grpSpPr>
        <p:grpSp>
          <p:nvGrpSpPr>
            <p:cNvPr id="176" name="Group 194"/>
            <p:cNvGrpSpPr/>
            <p:nvPr/>
          </p:nvGrpSpPr>
          <p:grpSpPr>
            <a:xfrm>
              <a:off x="3238560" y="2976480"/>
              <a:ext cx="5386320" cy="2924280"/>
              <a:chOff x="3238560" y="2976480"/>
              <a:chExt cx="5386320" cy="2924280"/>
            </a:xfrm>
          </p:grpSpPr>
          <p:sp>
            <p:nvSpPr>
              <p:cNvPr id="177" name="Round Diagonal Corner Rectangle 195"/>
              <p:cNvSpPr/>
              <p:nvPr/>
            </p:nvSpPr>
            <p:spPr>
              <a:xfrm>
                <a:off x="3238560" y="3547800"/>
                <a:ext cx="5386320" cy="2352960"/>
              </a:xfrm>
              <a:custGeom>
                <a:avLst/>
                <a:gdLst/>
                <a:ahLst/>
                <a:rect l="l" t="t" r="r" b="b"/>
                <a:pathLst>
                  <a:path w="5386894" h="2352734">
                    <a:moveTo>
                      <a:pt x="392130" y="0"/>
                    </a:moveTo>
                    <a:lnTo>
                      <a:pt x="5386894" y="0"/>
                    </a:lnTo>
                    <a:lnTo>
                      <a:pt x="5386894" y="0"/>
                    </a:lnTo>
                    <a:lnTo>
                      <a:pt x="5386894" y="1960604"/>
                    </a:lnTo>
                    <a:cubicBezTo>
                      <a:pt x="5386894" y="2177171"/>
                      <a:pt x="5211331" y="2352734"/>
                      <a:pt x="4994764" y="2352734"/>
                    </a:cubicBezTo>
                    <a:lnTo>
                      <a:pt x="0" y="2352734"/>
                    </a:lnTo>
                    <a:lnTo>
                      <a:pt x="0" y="2352734"/>
                    </a:lnTo>
                    <a:lnTo>
                      <a:pt x="0" y="392130"/>
                    </a:lnTo>
                    <a:cubicBezTo>
                      <a:pt x="0" y="175563"/>
                      <a:pt x="175563" y="0"/>
                      <a:pt x="3921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a7ccb"/>
                  </a:gs>
                  <a:gs pos="100000">
                    <a:srgbClr val="2c5d98"/>
                  </a:gs>
                </a:gsLst>
                <a:lin ang="5400000"/>
              </a:gra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Group 142"/>
              <p:cNvGrpSpPr/>
              <p:nvPr/>
            </p:nvGrpSpPr>
            <p:grpSpPr>
              <a:xfrm>
                <a:off x="3465000" y="2976480"/>
                <a:ext cx="5029200" cy="2908800"/>
                <a:chOff x="3465000" y="2976480"/>
                <a:chExt cx="5029200" cy="2908800"/>
              </a:xfrm>
            </p:grpSpPr>
            <p:grpSp>
              <p:nvGrpSpPr>
                <p:cNvPr id="179" name="Group 118"/>
                <p:cNvGrpSpPr/>
                <p:nvPr/>
              </p:nvGrpSpPr>
              <p:grpSpPr>
                <a:xfrm>
                  <a:off x="3465000" y="2976480"/>
                  <a:ext cx="5029200" cy="2908800"/>
                  <a:chOff x="3465000" y="2976480"/>
                  <a:chExt cx="5029200" cy="2908800"/>
                </a:xfrm>
              </p:grpSpPr>
              <p:grpSp>
                <p:nvGrpSpPr>
                  <p:cNvPr id="180" name="Group 18"/>
                  <p:cNvGrpSpPr/>
                  <p:nvPr/>
                </p:nvGrpSpPr>
                <p:grpSpPr>
                  <a:xfrm>
                    <a:off x="4825440" y="2976480"/>
                    <a:ext cx="2947320" cy="1402200"/>
                    <a:chOff x="4825440" y="2976480"/>
                    <a:chExt cx="2947320" cy="1402200"/>
                  </a:xfrm>
                </p:grpSpPr>
                <p:sp>
                  <p:nvSpPr>
                    <p:cNvPr id="181" name="Line 11"/>
                    <p:cNvSpPr/>
                    <p:nvPr/>
                  </p:nvSpPr>
                  <p:spPr>
                    <a:xfrm>
                      <a:off x="4825440" y="4378680"/>
                      <a:ext cx="517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Line 13"/>
                    <p:cNvSpPr/>
                    <p:nvPr/>
                  </p:nvSpPr>
                  <p:spPr>
                    <a:xfrm>
                      <a:off x="7772760" y="2976480"/>
                      <a:ext cx="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83" name="Picture 1" descr="C:\Documents and Settings\williams_bi\Local Settings\Temporary Internet Files\Content.IE5\NCB4CN79\MC900311860[1].wmf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610440" y="3766680"/>
                    <a:ext cx="1144080" cy="8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4" name="Picture 3" descr="C:\Documents and Settings\williams_bi\Local Settings\Temporary Internet Files\Content.IE5\O5HQD79B\MP900402692[1].jpg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423400" y="3821400"/>
                    <a:ext cx="1256040" cy="8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5" name="Picture 5" descr="C:\Documents and Settings\williams_bi\Local Settings\Temporary Internet Files\Content.IE5\PJ71VBD2\MC900431499[1].png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264080" y="5025600"/>
                    <a:ext cx="115380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6" name="Picture 6" descr="C:\Documents and Settings\williams_bi\Local Settings\Temporary Internet Files\Content.IE5\KD2YG92R\MC900432644[1].png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412400" y="3753000"/>
                    <a:ext cx="10818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7" name="Picture 7" descr="C:\Documents and Settings\williams_bi\Local Settings\Temporary Internet Files\Content.IE5\1AMI4QH7\MC900059570[1].wmf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342760" y="5025600"/>
                    <a:ext cx="111420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8" name="Line 12"/>
                  <p:cNvSpPr/>
                  <p:nvPr/>
                </p:nvSpPr>
                <p:spPr>
                  <a:xfrm>
                    <a:off x="6715080" y="419076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2"/>
                  <p:cNvSpPr/>
                  <p:nvPr/>
                </p:nvSpPr>
                <p:spPr>
                  <a:xfrm flipH="1">
                    <a:off x="6536160" y="541332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2"/>
                  <p:cNvSpPr/>
                  <p:nvPr/>
                </p:nvSpPr>
                <p:spPr>
                  <a:xfrm flipH="1">
                    <a:off x="4640040" y="541332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91" name="Picture 9" descr="C:\Documents and Settings\williams_bi\Local Settings\Temporary Internet Files\Content.IE5\J3TDAGIZ\MC900059634[1].wmf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65000" y="5025600"/>
                    <a:ext cx="1063440" cy="8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92" name="Line 13"/>
                <p:cNvSpPr/>
                <p:nvPr/>
              </p:nvSpPr>
              <p:spPr>
                <a:xfrm>
                  <a:off x="7926120" y="4563000"/>
                  <a:ext cx="0" cy="46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3" name="TextBox 211"/>
            <p:cNvSpPr/>
            <p:nvPr/>
          </p:nvSpPr>
          <p:spPr>
            <a:xfrm>
              <a:off x="8148240" y="3178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2340000" y="-2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Quality assurance of the semantic resourc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322200" indent="-32220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Provenance Everywhere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322200" indent="-32220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Validation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2" marL="698400" indent="-3222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ChemSpider Validation and Standardization Platform (CVSP) for flagging chemical representation issue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22200" indent="-32220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Curation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2" marL="698400" indent="-3222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High quality chemical names and synonyms.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698400" indent="-3222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Curation interfaces for terminologies (concept wiki)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74400" indent="-3744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Report data quality issues to data provider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698400" indent="-3222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D0FB-0F59-407A-8615-42D1BBDEC864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issu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Do not underestimate infrastructure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APIs are importan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Allows for tuning of sparql querie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Makes it easy for developers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Ontologies- Requirements vs. Recommendation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Modeling is hard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0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F9F5-C424-458C-B900-0B01F0DCE046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Open PHACTS Information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openphacts.org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mu@openphacts.org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@Open_PHACT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Publication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446a"/>
                </a:solidFill>
                <a:latin typeface="Calibri"/>
              </a:rPr>
              <a:t>Overview paper: Williams, A.J., Harland, L., Groth, P., Pettifer, S., Chichester, C., Willighagen, E.L., Evelo, C.T., Blomberg, N., Ecker, G., Goble, C., Mons, B.: Open PHACTS: Semantic interoperability for drug discovery. Drug Discovery Today. 17, 1188–1198 (2012).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446a"/>
                </a:solidFill>
                <a:latin typeface="Calibri"/>
              </a:rPr>
              <a:t>Technical approach: Gray, A.J.G., Groth, P., Loizou, A., et al.: Applying linked data approaches to pharmacology: Architectural decisions and implementation. Semantic Web. (2012).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7280-2F8B-467D-B098-0E5AF5DB3306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284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Open PHACTS objective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7" name="Espace réservé du pied de page 6"/>
          <p:cNvSpPr/>
          <p:nvPr/>
        </p:nvSpPr>
        <p:spPr>
          <a:xfrm>
            <a:off x="3156120" y="5987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7521480" y="5987880"/>
            <a:ext cx="11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3171-8E7A-4CEF-A49E-87752653E915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2556000" y="826920"/>
            <a:ext cx="4149720" cy="2386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2863800" cy="23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1" name="Picture 9" descr=""/>
          <p:cNvPicPr/>
          <p:nvPr/>
        </p:nvPicPr>
        <p:blipFill>
          <a:blip r:embed="rId3"/>
          <a:stretch/>
        </p:blipFill>
        <p:spPr>
          <a:xfrm>
            <a:off x="5219640" y="3429000"/>
            <a:ext cx="3443400" cy="2498760"/>
          </a:xfrm>
          <a:prstGeom prst="rect">
            <a:avLst/>
          </a:prstGeom>
          <a:ln w="0">
            <a:noFill/>
          </a:ln>
        </p:spPr>
      </p:pic>
      <p:grpSp>
        <p:nvGrpSpPr>
          <p:cNvPr id="202" name="Rounded Rectangle 10"/>
          <p:cNvGrpSpPr/>
          <p:nvPr/>
        </p:nvGrpSpPr>
        <p:grpSpPr>
          <a:xfrm>
            <a:off x="1663560" y="938160"/>
            <a:ext cx="1659240" cy="731880"/>
            <a:chOff x="1663560" y="938160"/>
            <a:chExt cx="1659240" cy="731880"/>
          </a:xfrm>
        </p:grpSpPr>
        <p:pic>
          <p:nvPicPr>
            <p:cNvPr id="203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1663560" y="938160"/>
              <a:ext cx="165924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792440" y="1009800"/>
              <a:ext cx="1457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Calibri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ounded Rectangle 12"/>
          <p:cNvGrpSpPr/>
          <p:nvPr/>
        </p:nvGrpSpPr>
        <p:grpSpPr>
          <a:xfrm>
            <a:off x="5194440" y="5187960"/>
            <a:ext cx="1657080" cy="731880"/>
            <a:chOff x="5194440" y="5187960"/>
            <a:chExt cx="1657080" cy="731880"/>
          </a:xfrm>
        </p:grpSpPr>
        <p:pic>
          <p:nvPicPr>
            <p:cNvPr id="206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5194440" y="5187960"/>
              <a:ext cx="16570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321160" y="5257800"/>
              <a:ext cx="1455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Calibri"/>
                </a:rPr>
                <a:t>Standa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Picture 13" descr=""/>
          <p:cNvPicPr/>
          <p:nvPr/>
        </p:nvPicPr>
        <p:blipFill>
          <a:blip r:embed="rId6"/>
          <a:stretch/>
        </p:blipFill>
        <p:spPr>
          <a:xfrm>
            <a:off x="1403280" y="3252960"/>
            <a:ext cx="2676600" cy="2479680"/>
          </a:xfrm>
          <a:prstGeom prst="rect">
            <a:avLst/>
          </a:prstGeom>
          <a:ln w="0">
            <a:noFill/>
          </a:ln>
        </p:spPr>
      </p:pic>
      <p:grpSp>
        <p:nvGrpSpPr>
          <p:cNvPr id="209" name="Rounded Rectangle 14"/>
          <p:cNvGrpSpPr/>
          <p:nvPr/>
        </p:nvGrpSpPr>
        <p:grpSpPr>
          <a:xfrm>
            <a:off x="1390680" y="3591000"/>
            <a:ext cx="1650960" cy="731880"/>
            <a:chOff x="1390680" y="3591000"/>
            <a:chExt cx="1650960" cy="731880"/>
          </a:xfrm>
        </p:grpSpPr>
        <p:pic>
          <p:nvPicPr>
            <p:cNvPr id="210" name="Rounded Rectangle 14" descr=""/>
            <p:cNvPicPr/>
            <p:nvPr/>
          </p:nvPicPr>
          <p:blipFill>
            <a:blip r:embed="rId7"/>
            <a:stretch/>
          </p:blipFill>
          <p:spPr>
            <a:xfrm>
              <a:off x="1390680" y="3591000"/>
              <a:ext cx="165096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514520" y="3662280"/>
              <a:ext cx="1457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Calibri"/>
                </a:rPr>
                <a:t>Ap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Rounded Rectangle 15"/>
          <p:cNvGrpSpPr/>
          <p:nvPr/>
        </p:nvGrpSpPr>
        <p:grpSpPr>
          <a:xfrm>
            <a:off x="384120" y="5248440"/>
            <a:ext cx="1657440" cy="738000"/>
            <a:chOff x="384120" y="5248440"/>
            <a:chExt cx="1657440" cy="738000"/>
          </a:xfrm>
        </p:grpSpPr>
        <p:pic>
          <p:nvPicPr>
            <p:cNvPr id="213" name="Rounded Rectangle 15" descr=""/>
            <p:cNvPicPr/>
            <p:nvPr/>
          </p:nvPicPr>
          <p:blipFill>
            <a:blip r:embed="rId8"/>
            <a:stretch/>
          </p:blipFill>
          <p:spPr>
            <a:xfrm>
              <a:off x="384120" y="5248440"/>
              <a:ext cx="165744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2640" y="5322960"/>
              <a:ext cx="14572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Calibri"/>
                </a:rPr>
                <a:t>A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7C26-6F31-43F9-8B40-56431E3FF221}" type="slidenum">
              <a:rPr b="0" lang="en-US" sz="1200" spc="-1" strike="noStrike">
                <a:solidFill>
                  <a:srgbClr val="00446a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Partner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7" name="Espace réservé du pied de page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897440" y="2776680"/>
            <a:ext cx="1143000" cy="320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"/>
          <p:cNvPicPr/>
          <p:nvPr/>
        </p:nvPicPr>
        <p:blipFill>
          <a:blip r:embed="rId2"/>
          <a:stretch/>
        </p:blipFill>
        <p:spPr>
          <a:xfrm>
            <a:off x="7777080" y="1768320"/>
            <a:ext cx="1252800" cy="368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2" descr=""/>
          <p:cNvPicPr/>
          <p:nvPr/>
        </p:nvPicPr>
        <p:blipFill>
          <a:blip r:embed="rId3"/>
          <a:srcRect l="0" t="0" r="8338" b="0"/>
          <a:stretch/>
        </p:blipFill>
        <p:spPr>
          <a:xfrm>
            <a:off x="3097080" y="1839960"/>
            <a:ext cx="1386000" cy="444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"/>
          <p:cNvPicPr/>
          <p:nvPr/>
        </p:nvPicPr>
        <p:blipFill>
          <a:blip r:embed="rId4"/>
          <a:stretch/>
        </p:blipFill>
        <p:spPr>
          <a:xfrm>
            <a:off x="360360" y="1878120"/>
            <a:ext cx="1584360" cy="466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" descr=""/>
          <p:cNvPicPr/>
          <p:nvPr/>
        </p:nvPicPr>
        <p:blipFill>
          <a:blip r:embed="rId5"/>
          <a:stretch/>
        </p:blipFill>
        <p:spPr>
          <a:xfrm>
            <a:off x="6410160" y="2776680"/>
            <a:ext cx="1511640" cy="444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"/>
          <p:cNvPicPr/>
          <p:nvPr/>
        </p:nvPicPr>
        <p:blipFill>
          <a:blip r:embed="rId6"/>
          <a:stretch/>
        </p:blipFill>
        <p:spPr>
          <a:xfrm>
            <a:off x="4826160" y="2200320"/>
            <a:ext cx="1711080" cy="503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5" descr=""/>
          <p:cNvPicPr/>
          <p:nvPr/>
        </p:nvPicPr>
        <p:blipFill>
          <a:blip r:embed="rId7"/>
          <a:srcRect l="0" t="0" r="35018" b="0"/>
          <a:stretch/>
        </p:blipFill>
        <p:spPr>
          <a:xfrm>
            <a:off x="7837560" y="3208320"/>
            <a:ext cx="888840" cy="4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"/>
          <p:cNvPicPr/>
          <p:nvPr/>
        </p:nvPicPr>
        <p:blipFill>
          <a:blip r:embed="rId8"/>
          <a:srcRect l="0" t="0" r="13340" b="0"/>
          <a:stretch/>
        </p:blipFill>
        <p:spPr>
          <a:xfrm>
            <a:off x="6491160" y="3279600"/>
            <a:ext cx="1060560" cy="360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"/>
          <p:cNvPicPr/>
          <p:nvPr/>
        </p:nvPicPr>
        <p:blipFill>
          <a:blip r:embed="rId9"/>
          <a:stretch/>
        </p:blipFill>
        <p:spPr>
          <a:xfrm>
            <a:off x="433440" y="2487600"/>
            <a:ext cx="2016000" cy="534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"/>
          <p:cNvPicPr/>
          <p:nvPr/>
        </p:nvPicPr>
        <p:blipFill>
          <a:blip r:embed="rId10"/>
          <a:stretch/>
        </p:blipFill>
        <p:spPr>
          <a:xfrm>
            <a:off x="433440" y="3137040"/>
            <a:ext cx="1466640" cy="431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"/>
          <p:cNvPicPr/>
          <p:nvPr/>
        </p:nvPicPr>
        <p:blipFill>
          <a:blip r:embed="rId11"/>
          <a:stretch/>
        </p:blipFill>
        <p:spPr>
          <a:xfrm>
            <a:off x="6337440" y="1839960"/>
            <a:ext cx="1187280" cy="349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6" descr=""/>
          <p:cNvPicPr/>
          <p:nvPr/>
        </p:nvPicPr>
        <p:blipFill>
          <a:blip r:embed="rId12"/>
          <a:stretch/>
        </p:blipFill>
        <p:spPr>
          <a:xfrm>
            <a:off x="7634160" y="2200320"/>
            <a:ext cx="1227240" cy="360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3" descr=""/>
          <p:cNvPicPr/>
          <p:nvPr/>
        </p:nvPicPr>
        <p:blipFill>
          <a:blip r:embed="rId13"/>
          <a:stretch/>
        </p:blipFill>
        <p:spPr>
          <a:xfrm>
            <a:off x="4897440" y="3208320"/>
            <a:ext cx="1220760" cy="360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5" descr=""/>
          <p:cNvPicPr/>
          <p:nvPr/>
        </p:nvPicPr>
        <p:blipFill>
          <a:blip r:embed="rId14"/>
          <a:stretch/>
        </p:blipFill>
        <p:spPr>
          <a:xfrm>
            <a:off x="3097080" y="2703600"/>
            <a:ext cx="1576440" cy="463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6" descr=""/>
          <p:cNvPicPr/>
          <p:nvPr/>
        </p:nvPicPr>
        <p:blipFill>
          <a:blip r:embed="rId15"/>
          <a:stretch/>
        </p:blipFill>
        <p:spPr>
          <a:xfrm>
            <a:off x="3292560" y="3279600"/>
            <a:ext cx="1079280" cy="319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8" descr=""/>
          <p:cNvPicPr/>
          <p:nvPr/>
        </p:nvPicPr>
        <p:blipFill>
          <a:blip r:embed="rId16"/>
          <a:stretch/>
        </p:blipFill>
        <p:spPr>
          <a:xfrm>
            <a:off x="4826160" y="1839960"/>
            <a:ext cx="1150920" cy="339840"/>
          </a:xfrm>
          <a:prstGeom prst="rect">
            <a:avLst/>
          </a:prstGeom>
          <a:ln w="0">
            <a:noFill/>
          </a:ln>
        </p:spPr>
      </p:pic>
      <p:pic>
        <p:nvPicPr>
          <p:cNvPr id="234" name="Grafik 26" descr="C:\Users\Anika Robl\AppData\Local\Microsoft\Windows\Temporary Internet Files\Content.Outlook\PFI2JZPG\INGLES_POSITIVO.jpg"/>
          <p:cNvPicPr/>
          <p:nvPr/>
        </p:nvPicPr>
        <p:blipFill>
          <a:blip r:embed="rId17"/>
          <a:stretch/>
        </p:blipFill>
        <p:spPr>
          <a:xfrm>
            <a:off x="6337440" y="2344680"/>
            <a:ext cx="834840" cy="298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7" descr=""/>
          <p:cNvPicPr/>
          <p:nvPr/>
        </p:nvPicPr>
        <p:blipFill>
          <a:blip r:embed="rId18"/>
          <a:stretch/>
        </p:blipFill>
        <p:spPr>
          <a:xfrm>
            <a:off x="1297080" y="1913040"/>
            <a:ext cx="1584360" cy="465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4" descr=""/>
          <p:cNvPicPr/>
          <p:nvPr/>
        </p:nvPicPr>
        <p:blipFill>
          <a:blip r:embed="rId19"/>
          <a:stretch/>
        </p:blipFill>
        <p:spPr>
          <a:xfrm>
            <a:off x="1368360" y="2560680"/>
            <a:ext cx="1470240" cy="431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"/>
          <p:cNvPicPr/>
          <p:nvPr/>
        </p:nvPicPr>
        <p:blipFill>
          <a:blip r:embed="rId20"/>
          <a:stretch/>
        </p:blipFill>
        <p:spPr>
          <a:xfrm>
            <a:off x="3168720" y="2344680"/>
            <a:ext cx="1128600" cy="333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0" descr=""/>
          <p:cNvPicPr/>
          <p:nvPr/>
        </p:nvPicPr>
        <p:blipFill>
          <a:blip r:embed="rId21"/>
          <a:stretch/>
        </p:blipFill>
        <p:spPr>
          <a:xfrm>
            <a:off x="1441440" y="3137040"/>
            <a:ext cx="1471680" cy="431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"/>
          <p:cNvPicPr/>
          <p:nvPr/>
        </p:nvPicPr>
        <p:blipFill>
          <a:blip r:embed="rId22"/>
          <a:stretch/>
        </p:blipFill>
        <p:spPr>
          <a:xfrm>
            <a:off x="7464600" y="2674800"/>
            <a:ext cx="1709640" cy="505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NBIC"/>
          <p:cNvPicPr/>
          <p:nvPr/>
        </p:nvPicPr>
        <p:blipFill>
          <a:blip r:embed="rId23"/>
          <a:stretch/>
        </p:blipFill>
        <p:spPr>
          <a:xfrm>
            <a:off x="4968720" y="3960720"/>
            <a:ext cx="1086120" cy="457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SIB"/>
          <p:cNvPicPr/>
          <p:nvPr/>
        </p:nvPicPr>
        <p:blipFill>
          <a:blip r:embed="rId24"/>
          <a:stretch/>
        </p:blipFill>
        <p:spPr>
          <a:xfrm>
            <a:off x="7756560" y="3933720"/>
            <a:ext cx="1028520" cy="555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ConnDiscovery"/>
          <p:cNvPicPr/>
          <p:nvPr/>
        </p:nvPicPr>
        <p:blipFill>
          <a:blip r:embed="rId25"/>
          <a:stretch/>
        </p:blipFill>
        <p:spPr>
          <a:xfrm>
            <a:off x="3168720" y="4017960"/>
            <a:ext cx="1638360" cy="399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EBI"/>
          <p:cNvPicPr/>
          <p:nvPr/>
        </p:nvPicPr>
        <p:blipFill>
          <a:blip r:embed="rId26"/>
          <a:stretch/>
        </p:blipFill>
        <p:spPr>
          <a:xfrm>
            <a:off x="1467000" y="4041720"/>
            <a:ext cx="1414440" cy="447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" descr="janssen"/>
          <p:cNvPicPr/>
          <p:nvPr/>
        </p:nvPicPr>
        <p:blipFill>
          <a:blip r:embed="rId27"/>
          <a:stretch/>
        </p:blipFill>
        <p:spPr>
          <a:xfrm>
            <a:off x="289080" y="3946680"/>
            <a:ext cx="1064880" cy="614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5" descr="oplogo_std_200x80.png"/>
          <p:cNvPicPr/>
          <p:nvPr/>
        </p:nvPicPr>
        <p:blipFill>
          <a:blip r:embed="rId28"/>
          <a:srcRect l="0" t="0" r="0" b="14179"/>
          <a:stretch/>
        </p:blipFill>
        <p:spPr>
          <a:xfrm>
            <a:off x="6286680" y="3981600"/>
            <a:ext cx="1269720" cy="43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717C-ADAF-4CC4-A50D-7284ED311C05}" type="slidenum">
              <a:rPr b="0" lang="en-US" sz="1200" spc="-1" strike="noStrike">
                <a:solidFill>
                  <a:srgbClr val="00446a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Associate Partner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48" name="Espace réservé du pied de page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3" descr=""/>
          <p:cNvPicPr/>
          <p:nvPr/>
        </p:nvPicPr>
        <p:blipFill>
          <a:blip r:embed="rId1"/>
          <a:stretch/>
        </p:blipFill>
        <p:spPr>
          <a:xfrm>
            <a:off x="7305840" y="2232000"/>
            <a:ext cx="1193760" cy="866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1573200" cy="490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3"/>
          <a:stretch/>
        </p:blipFill>
        <p:spPr>
          <a:xfrm>
            <a:off x="5791320" y="3036960"/>
            <a:ext cx="1293840" cy="380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"/>
          <p:cNvPicPr/>
          <p:nvPr/>
        </p:nvPicPr>
        <p:blipFill>
          <a:blip r:embed="rId4"/>
          <a:stretch/>
        </p:blipFill>
        <p:spPr>
          <a:xfrm>
            <a:off x="7162920" y="3200400"/>
            <a:ext cx="1647720" cy="693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"/>
          <p:cNvPicPr/>
          <p:nvPr/>
        </p:nvPicPr>
        <p:blipFill>
          <a:blip r:embed="rId5"/>
          <a:stretch/>
        </p:blipFill>
        <p:spPr>
          <a:xfrm>
            <a:off x="380880" y="2057400"/>
            <a:ext cx="1629000" cy="458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"/>
          <p:cNvPicPr/>
          <p:nvPr/>
        </p:nvPicPr>
        <p:blipFill>
          <a:blip r:embed="rId6"/>
          <a:stretch/>
        </p:blipFill>
        <p:spPr>
          <a:xfrm>
            <a:off x="7467480" y="3962520"/>
            <a:ext cx="1092240" cy="1092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2" descr=""/>
          <p:cNvPicPr/>
          <p:nvPr/>
        </p:nvPicPr>
        <p:blipFill>
          <a:blip r:embed="rId7"/>
          <a:stretch/>
        </p:blipFill>
        <p:spPr>
          <a:xfrm>
            <a:off x="3564000" y="4149720"/>
            <a:ext cx="1101600" cy="693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3" descr=""/>
          <p:cNvPicPr/>
          <p:nvPr/>
        </p:nvPicPr>
        <p:blipFill>
          <a:blip r:embed="rId8"/>
          <a:stretch/>
        </p:blipFill>
        <p:spPr>
          <a:xfrm>
            <a:off x="457200" y="4343400"/>
            <a:ext cx="1852560" cy="620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"/>
          <p:cNvPicPr/>
          <p:nvPr/>
        </p:nvPicPr>
        <p:blipFill>
          <a:blip r:embed="rId9"/>
          <a:stretch/>
        </p:blipFill>
        <p:spPr>
          <a:xfrm>
            <a:off x="2700360" y="3933720"/>
            <a:ext cx="639720" cy="12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"/>
          <p:cNvPicPr/>
          <p:nvPr/>
        </p:nvPicPr>
        <p:blipFill>
          <a:blip r:embed="rId10"/>
          <a:stretch/>
        </p:blipFill>
        <p:spPr>
          <a:xfrm>
            <a:off x="3419640" y="5445000"/>
            <a:ext cx="2046240" cy="64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7" descr=""/>
          <p:cNvPicPr/>
          <p:nvPr/>
        </p:nvPicPr>
        <p:blipFill>
          <a:blip r:embed="rId11"/>
          <a:stretch/>
        </p:blipFill>
        <p:spPr>
          <a:xfrm>
            <a:off x="228600" y="3657600"/>
            <a:ext cx="2119320" cy="693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8" descr=""/>
          <p:cNvPicPr/>
          <p:nvPr/>
        </p:nvPicPr>
        <p:blipFill>
          <a:blip r:embed="rId12"/>
          <a:stretch/>
        </p:blipFill>
        <p:spPr>
          <a:xfrm>
            <a:off x="2700360" y="2565360"/>
            <a:ext cx="1560600" cy="500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9" descr=""/>
          <p:cNvPicPr/>
          <p:nvPr/>
        </p:nvPicPr>
        <p:blipFill>
          <a:blip r:embed="rId13"/>
          <a:stretch/>
        </p:blipFill>
        <p:spPr>
          <a:xfrm>
            <a:off x="457200" y="1371600"/>
            <a:ext cx="2065320" cy="444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0" descr=""/>
          <p:cNvPicPr/>
          <p:nvPr/>
        </p:nvPicPr>
        <p:blipFill>
          <a:blip r:embed="rId14"/>
          <a:stretch/>
        </p:blipFill>
        <p:spPr>
          <a:xfrm>
            <a:off x="2195640" y="5300640"/>
            <a:ext cx="820440" cy="1050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1" descr=""/>
          <p:cNvPicPr/>
          <p:nvPr/>
        </p:nvPicPr>
        <p:blipFill>
          <a:blip r:embed="rId15"/>
          <a:stretch/>
        </p:blipFill>
        <p:spPr>
          <a:xfrm>
            <a:off x="6934320" y="1371600"/>
            <a:ext cx="1850760" cy="693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"/>
          <p:cNvPicPr/>
          <p:nvPr/>
        </p:nvPicPr>
        <p:blipFill>
          <a:blip r:embed="rId16"/>
          <a:stretch/>
        </p:blipFill>
        <p:spPr>
          <a:xfrm>
            <a:off x="4724280" y="4648320"/>
            <a:ext cx="684360" cy="693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3" descr=""/>
          <p:cNvPicPr/>
          <p:nvPr/>
        </p:nvPicPr>
        <p:blipFill>
          <a:blip r:embed="rId17"/>
          <a:stretch/>
        </p:blipFill>
        <p:spPr>
          <a:xfrm>
            <a:off x="6300720" y="5373720"/>
            <a:ext cx="2306880" cy="8143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4" descr=""/>
          <p:cNvPicPr/>
          <p:nvPr/>
        </p:nvPicPr>
        <p:blipFill>
          <a:blip r:embed="rId18"/>
          <a:stretch/>
        </p:blipFill>
        <p:spPr>
          <a:xfrm>
            <a:off x="2987640" y="1628640"/>
            <a:ext cx="1986120" cy="578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5" descr="\\rsc\userdata\TGH\Home\KiddR\MyDocuments\OPS Publicity\Certara.png"/>
          <p:cNvPicPr/>
          <p:nvPr/>
        </p:nvPicPr>
        <p:blipFill>
          <a:blip r:embed="rId19"/>
          <a:stretch/>
        </p:blipFill>
        <p:spPr>
          <a:xfrm>
            <a:off x="5334120" y="3657600"/>
            <a:ext cx="1555560" cy="449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6" descr="\\rsc\userdata\TGH\Home\KiddR\MyDocuments\OPS Publicity\EagleGenomics.png"/>
          <p:cNvPicPr/>
          <p:nvPr/>
        </p:nvPicPr>
        <p:blipFill>
          <a:blip r:embed="rId20"/>
          <a:stretch/>
        </p:blipFill>
        <p:spPr>
          <a:xfrm>
            <a:off x="5715000" y="1295280"/>
            <a:ext cx="901800" cy="987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7" descr="\\rsc\userdata\TGH\Home\KiddR\MyDocuments\OPS Publicity\Erasmus.png"/>
          <p:cNvPicPr/>
          <p:nvPr/>
        </p:nvPicPr>
        <p:blipFill>
          <a:blip r:embed="rId21"/>
          <a:stretch/>
        </p:blipFill>
        <p:spPr>
          <a:xfrm>
            <a:off x="457200" y="5562720"/>
            <a:ext cx="1193760" cy="449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8" descr="\\rsc\userdata\TGH\Home\KiddR\MyDocuments\OPS Publicity\MGH.png"/>
          <p:cNvPicPr/>
          <p:nvPr/>
        </p:nvPicPr>
        <p:blipFill>
          <a:blip r:embed="rId22"/>
          <a:stretch/>
        </p:blipFill>
        <p:spPr>
          <a:xfrm>
            <a:off x="4952880" y="3119400"/>
            <a:ext cx="513000" cy="601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3"/>
          <a:stretch/>
        </p:blipFill>
        <p:spPr>
          <a:xfrm>
            <a:off x="5105520" y="2438280"/>
            <a:ext cx="1388880" cy="519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\\rsc\userdata\TGH\Home\KiddR\MyDocuments\OPS Publicity\hyve.jpg"/>
          <p:cNvPicPr/>
          <p:nvPr/>
        </p:nvPicPr>
        <p:blipFill>
          <a:blip r:embed="rId24"/>
          <a:stretch/>
        </p:blipFill>
        <p:spPr>
          <a:xfrm>
            <a:off x="2556000" y="3462480"/>
            <a:ext cx="1616040" cy="344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8" descr=""/>
          <p:cNvPicPr/>
          <p:nvPr/>
        </p:nvPicPr>
        <p:blipFill>
          <a:blip r:embed="rId25"/>
          <a:stretch/>
        </p:blipFill>
        <p:spPr>
          <a:xfrm>
            <a:off x="457200" y="2743200"/>
            <a:ext cx="1173240" cy="863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/>
          <p:cNvPicPr/>
          <p:nvPr/>
        </p:nvPicPr>
        <p:blipFill>
          <a:blip r:embed="rId26"/>
          <a:stretch/>
        </p:blipFill>
        <p:spPr>
          <a:xfrm>
            <a:off x="7010280" y="4800600"/>
            <a:ext cx="1893960" cy="6937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60"/>
          <p:cNvSpPr/>
          <p:nvPr/>
        </p:nvSpPr>
        <p:spPr>
          <a:xfrm>
            <a:off x="4788000" y="5013360"/>
            <a:ext cx="98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uenom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Espace réservé du numéro de diapositive 15"/>
          <p:cNvSpPr/>
          <p:nvPr/>
        </p:nvSpPr>
        <p:spPr>
          <a:xfrm>
            <a:off x="7489800" y="578016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174A-324A-4420-BF6C-C991603929EC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Espace réservé du pied de page 16"/>
          <p:cNvSpPr/>
          <p:nvPr/>
        </p:nvSpPr>
        <p:spPr>
          <a:xfrm>
            <a:off x="3124080" y="57801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6"/>
          <p:cNvSpPr/>
          <p:nvPr/>
        </p:nvSpPr>
        <p:spPr>
          <a:xfrm>
            <a:off x="108000" y="3068640"/>
            <a:ext cx="148104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7"/>
          <p:cNvSpPr/>
          <p:nvPr/>
        </p:nvSpPr>
        <p:spPr>
          <a:xfrm>
            <a:off x="1762200" y="3027240"/>
            <a:ext cx="1481040" cy="6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ug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8"/>
          <p:cNvSpPr/>
          <p:nvPr/>
        </p:nvSpPr>
        <p:spPr>
          <a:xfrm>
            <a:off x="3492360" y="3068640"/>
            <a:ext cx="147960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9"/>
          <p:cNvSpPr/>
          <p:nvPr/>
        </p:nvSpPr>
        <p:spPr>
          <a:xfrm>
            <a:off x="5194440" y="3046320"/>
            <a:ext cx="1722240" cy="6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kipath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ounded Rectangle 10"/>
          <p:cNvSpPr/>
          <p:nvPr/>
        </p:nvSpPr>
        <p:spPr>
          <a:xfrm>
            <a:off x="2592360" y="3914640"/>
            <a:ext cx="1481040" cy="6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Pr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ounded Rectangle 11"/>
          <p:cNvSpPr/>
          <p:nvPr/>
        </p:nvSpPr>
        <p:spPr>
          <a:xfrm>
            <a:off x="3608280" y="4762440"/>
            <a:ext cx="162900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mSp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ounded Rectangle 12"/>
          <p:cNvSpPr/>
          <p:nvPr/>
        </p:nvSpPr>
        <p:spPr>
          <a:xfrm>
            <a:off x="4462560" y="3914640"/>
            <a:ext cx="1628640" cy="6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ounded Rectangle 13"/>
          <p:cNvSpPr/>
          <p:nvPr/>
        </p:nvSpPr>
        <p:spPr>
          <a:xfrm>
            <a:off x="1611360" y="4762440"/>
            <a:ext cx="162864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cept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ounded Rectangle 14"/>
          <p:cNvSpPr/>
          <p:nvPr/>
        </p:nvSpPr>
        <p:spPr>
          <a:xfrm>
            <a:off x="409680" y="3914640"/>
            <a:ext cx="1628640" cy="6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15"/>
          <p:cNvSpPr/>
          <p:nvPr/>
        </p:nvSpPr>
        <p:spPr>
          <a:xfrm>
            <a:off x="5632560" y="4772160"/>
            <a:ext cx="162864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alT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ounded Rectangle 17"/>
          <p:cNvSpPr/>
          <p:nvPr/>
        </p:nvSpPr>
        <p:spPr>
          <a:xfrm>
            <a:off x="6480000" y="3924360"/>
            <a:ext cx="162900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VK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ounded Rectangle 18"/>
          <p:cNvSpPr/>
          <p:nvPr/>
        </p:nvSpPr>
        <p:spPr>
          <a:xfrm>
            <a:off x="7129440" y="3059280"/>
            <a:ext cx="162720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ounded Rectangle 19"/>
          <p:cNvSpPr/>
          <p:nvPr/>
        </p:nvSpPr>
        <p:spPr>
          <a:xfrm>
            <a:off x="7480440" y="4772160"/>
            <a:ext cx="162864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50"/>
          <p:cNvGraphicFramePr/>
          <p:nvPr/>
        </p:nvGraphicFramePr>
        <p:xfrm>
          <a:off x="4859280" y="1484280"/>
          <a:ext cx="515880" cy="5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484280"/>
                    <a:ext cx="5158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48"/>
          <p:cNvGraphicFramePr/>
          <p:nvPr/>
        </p:nvGraphicFramePr>
        <p:xfrm>
          <a:off x="5219640" y="2349360"/>
          <a:ext cx="507960" cy="5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2349360"/>
                    <a:ext cx="5079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Oval Callout 22"/>
          <p:cNvGrpSpPr/>
          <p:nvPr/>
        </p:nvGrpSpPr>
        <p:grpSpPr>
          <a:xfrm>
            <a:off x="5730840" y="1163520"/>
            <a:ext cx="3468600" cy="1841760"/>
            <a:chOff x="5730840" y="1163520"/>
            <a:chExt cx="3468600" cy="1841760"/>
          </a:xfrm>
        </p:grpSpPr>
        <p:pic>
          <p:nvPicPr>
            <p:cNvPr id="296" name="Oval Callout 22" descr=""/>
            <p:cNvPicPr/>
            <p:nvPr/>
          </p:nvPicPr>
          <p:blipFill>
            <a:blip r:embed="rId5"/>
            <a:stretch/>
          </p:blipFill>
          <p:spPr>
            <a:xfrm>
              <a:off x="5730840" y="1163520"/>
              <a:ext cx="3468600" cy="18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469200" y="1449360"/>
              <a:ext cx="221616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“</a:t>
              </a: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Find me compounds that inhibit targets in  NFkB pathway assayed in only functional assays with a potency &lt;1 </a:t>
              </a:r>
              <a:r>
                <a:rPr b="0" lang="el-GR" sz="1400" spc="-1" strike="noStrike">
                  <a:solidFill>
                    <a:srgbClr val="10253f"/>
                  </a:solidFill>
                  <a:latin typeface="Comic Sans MS"/>
                </a:rPr>
                <a:t>μ</a:t>
              </a: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M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Oval Callout 23"/>
          <p:cNvGrpSpPr/>
          <p:nvPr/>
        </p:nvGrpSpPr>
        <p:grpSpPr>
          <a:xfrm>
            <a:off x="3578400" y="444600"/>
            <a:ext cx="2700000" cy="1658880"/>
            <a:chOff x="3578400" y="444600"/>
            <a:chExt cx="2700000" cy="1658880"/>
          </a:xfrm>
        </p:grpSpPr>
        <p:pic>
          <p:nvPicPr>
            <p:cNvPr id="299" name="Oval Callout 23" descr=""/>
            <p:cNvPicPr/>
            <p:nvPr/>
          </p:nvPicPr>
          <p:blipFill>
            <a:blip r:embed="rId6"/>
            <a:stretch/>
          </p:blipFill>
          <p:spPr>
            <a:xfrm>
              <a:off x="3578400" y="444600"/>
              <a:ext cx="270000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4014720" y="698400"/>
              <a:ext cx="18288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“</a:t>
              </a: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Let me compare MW, logP and PSA for known  oxidoreductase inhibitors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Oval Callout 24"/>
          <p:cNvGrpSpPr/>
          <p:nvPr/>
        </p:nvGrpSpPr>
        <p:grpSpPr>
          <a:xfrm>
            <a:off x="139680" y="517680"/>
            <a:ext cx="3048120" cy="1566720"/>
            <a:chOff x="139680" y="517680"/>
            <a:chExt cx="3048120" cy="1566720"/>
          </a:xfrm>
        </p:grpSpPr>
        <p:pic>
          <p:nvPicPr>
            <p:cNvPr id="302" name="Oval Callout 24" descr=""/>
            <p:cNvPicPr/>
            <p:nvPr/>
          </p:nvPicPr>
          <p:blipFill>
            <a:blip r:embed="rId7"/>
            <a:stretch/>
          </p:blipFill>
          <p:spPr>
            <a:xfrm>
              <a:off x="139680" y="517680"/>
              <a:ext cx="304812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627120" y="728640"/>
              <a:ext cx="20746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“</a:t>
              </a: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What is the selectivity profile of known p38 inhibitors?”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4" name="Object 4"/>
          <p:cNvGraphicFramePr/>
          <p:nvPr/>
        </p:nvGraphicFramePr>
        <p:xfrm>
          <a:off x="3132000" y="1844640"/>
          <a:ext cx="507960" cy="5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132000" y="1844640"/>
                    <a:ext cx="5079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5"/>
          <p:cNvGraphicFramePr/>
          <p:nvPr/>
        </p:nvGraphicFramePr>
        <p:xfrm>
          <a:off x="539640" y="1989000"/>
          <a:ext cx="507960" cy="501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7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9640" y="1989000"/>
                    <a:ext cx="5079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2534-F25F-4582-89B4-A20896918E13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Screen Shot 2012-11-14 at 2.27.06 PM.png"/>
          <p:cNvPicPr/>
          <p:nvPr/>
        </p:nvPicPr>
        <p:blipFill>
          <a:blip r:embed="rId1"/>
          <a:stretch/>
        </p:blipFill>
        <p:spPr>
          <a:xfrm>
            <a:off x="-7920" y="480960"/>
            <a:ext cx="9144000" cy="5321520"/>
          </a:xfrm>
          <a:prstGeom prst="rect">
            <a:avLst/>
          </a:prstGeom>
          <a:ln w="0">
            <a:noFill/>
          </a:ln>
        </p:spPr>
      </p:pic>
      <p:sp>
        <p:nvSpPr>
          <p:cNvPr id="311" name="TextBox 6"/>
          <p:cNvSpPr/>
          <p:nvPr/>
        </p:nvSpPr>
        <p:spPr>
          <a:xfrm>
            <a:off x="194760" y="115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PHACTS Expl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8a54"/>
                </a:solidFill>
                <a:latin typeface="Calibri"/>
              </a:rPr>
              <a:t>PharmaTrek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</p:txBody>
      </p:sp>
      <p:pic>
        <p:nvPicPr>
          <p:cNvPr id="313" name="Picture 5" descr="Screen Shot 2012-11-14 at 3.09.55 PM.png"/>
          <p:cNvPicPr/>
          <p:nvPr/>
        </p:nvPicPr>
        <p:blipFill>
          <a:blip r:embed="rId1"/>
          <a:stretch/>
        </p:blipFill>
        <p:spPr>
          <a:xfrm>
            <a:off x="539640" y="826920"/>
            <a:ext cx="7952040" cy="46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233F-4E7A-4363-9E62-2FD10BB778C4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920880" y="528480"/>
            <a:ext cx="8029440" cy="4845240"/>
          </a:xfrm>
          <a:prstGeom prst="rect">
            <a:avLst/>
          </a:prstGeom>
          <a:ln w="0">
            <a:noFill/>
          </a:ln>
        </p:spPr>
      </p:pic>
      <p:pic>
        <p:nvPicPr>
          <p:cNvPr id="317" name="Bild 2" descr="ScreenShot_CBN_Grid.tiff"/>
          <p:cNvPicPr/>
          <p:nvPr/>
        </p:nvPicPr>
        <p:blipFill>
          <a:blip r:embed="rId2"/>
          <a:stretch/>
        </p:blipFill>
        <p:spPr>
          <a:xfrm>
            <a:off x="2668680" y="1154160"/>
            <a:ext cx="4495680" cy="3211560"/>
          </a:xfrm>
          <a:prstGeom prst="rect">
            <a:avLst/>
          </a:prstGeom>
          <a:ln w="0">
            <a:noFill/>
          </a:ln>
        </p:spPr>
      </p:pic>
      <p:sp>
        <p:nvSpPr>
          <p:cNvPr id="318" name="TextBox 8"/>
          <p:cNvSpPr/>
          <p:nvPr/>
        </p:nvSpPr>
        <p:spPr>
          <a:xfrm>
            <a:off x="192960" y="260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BioNavig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1:58:06Z</dcterms:created>
  <dc:creator>Geert Thienpont</dc:creator>
  <dc:description/>
  <cp:keywords>Template</cp:keywords>
  <dc:language>en-US</dc:language>
  <cp:lastModifiedBy>Sajjad Hussain</cp:lastModifiedBy>
  <dcterms:modified xsi:type="dcterms:W3CDTF">2013-01-27T18:34:18Z</dcterms:modified>
  <cp:revision>196</cp:revision>
  <dc:subject>Electronic Health Records for Clinical Research</dc:subject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A8F06BE5DF5F747A022BC8322DD419B001FEF3DC2CF7D1144A5A06A8BA1455B4F</vt:lpwstr>
  </property>
  <property fmtid="{D5CDD505-2E9C-101B-9397-08002B2CF9AE}" pid="3" name="WPNo">
    <vt:lpwstr>General (HP)</vt:lpwstr>
  </property>
  <property fmtid="{D5CDD505-2E9C-101B-9397-08002B2CF9AE}" pid="4" name="ehr4crDelNo">
    <vt:lpwstr>None</vt:lpwstr>
  </property>
  <property fmtid="{D5CDD505-2E9C-101B-9397-08002B2CF9AE}" pid="5" name="ehr4crDocType">
    <vt:lpwstr>Other</vt:lpwstr>
  </property>
  <property fmtid="{D5CDD505-2E9C-101B-9397-08002B2CF9AE}" pid="6" name="ehr4crPartner">
    <vt:lpwstr>n.a.</vt:lpwstr>
  </property>
  <property fmtid="{D5CDD505-2E9C-101B-9397-08002B2CF9AE}" pid="7" name="ehr4crTask">
    <vt:lpwstr>none</vt:lpwstr>
  </property>
</Properties>
</file>